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F06E-D534-428F-98D7-9779EFD3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348-1CAF-47B4-8EE6-74F19FE9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AAF-F8E0-4587-9B89-93297B0D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649F-8893-4E30-AD64-CC1CE498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8506-66DC-424B-ABA1-CB02F9BB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D484-DB02-4F6E-8850-003F552C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D573-8E01-4A8A-BF75-53F7C63E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5E0C-3C3D-4449-B8B4-89FACFFC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C345-E1AB-4EE9-B1F1-0A30F109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B486-3E0C-4A73-AAEC-C637584D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163B-7020-44CE-BE88-02FDF727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48F-A89E-4C5E-AFE5-A1430DD3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DCA8-76AB-4DAF-9CCE-714DE2B1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3CD1-FE70-4687-9882-9940921E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9E3E-4616-4628-93CA-0DAE4516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1FD1-BDE4-4E4A-95E1-AE11AB3E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C7F6-F66D-4E08-90F1-98D67760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6C68-948C-4640-9B3E-0216CEAE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9038-2FE7-49B3-8451-A0757DD6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6392-AAF5-4CC2-A89B-040896A4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EBED-9831-4017-9618-1DC3D527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4A78-155F-4DAD-A8FE-A09A0C28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355-99BE-479B-A42F-9AD0DC9E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D87-4DA0-4D89-9B67-E2C0C7BB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5BEF-2583-4869-A217-874150A357FD}" type="slidenum">
              <a:rPr b="0" lang="hu-H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838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89480" y="76320"/>
            <a:ext cx="72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 and Automation Research Institute of the Hungarian Academy of Sc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8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9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D0E9-2059-4713-9EF9-1F2DFE8E09BC}" type="slidenum">
              <a:rPr b="0" lang="hu-H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229600" y="533520"/>
            <a:ext cx="914400" cy="838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49880" y="533520"/>
            <a:ext cx="729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 and Automation Research Institute of the  Hungarian Academy of Sc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warm.org/" TargetMode="External"/><Relationship Id="rId2" Type="http://schemas.openxmlformats.org/officeDocument/2006/relationships/hyperlink" Target="http://www.maml.hu/" TargetMode="External"/><Relationship Id="rId3" Type="http://schemas.openxmlformats.org/officeDocument/2006/relationships/hyperlink" Target="http://www.maml.hu/" TargetMode="External"/><Relationship Id="rId4" Type="http://schemas.openxmlformats.org/officeDocument/2006/relationships/hyperlink" Target="http://repast.sourceforge.net/" TargetMode="External"/><Relationship Id="rId5" Type="http://schemas.openxmlformats.org/officeDocument/2006/relationships/hyperlink" Target="http://repast.sourceforge.net/" TargetMode="External"/><Relationship Id="rId6" Type="http://schemas.openxmlformats.org/officeDocument/2006/relationships/hyperlink" Target="http://repast.sourceforge.net/" TargetMode="Externa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15720"/>
            <a:ext cx="8001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gent-Based Models of Cities, Networks, and Decision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ászló Guly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Computer and Automation Institute of the Hungarian Academy of Sciences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(MTA SZTAK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lf-Organizing Cities ctd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gents: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…,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ocations: l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[1..M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gent’s lo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ocations, agents can share the same loc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itially, agents are uniformly distibu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ocation’s “market share”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l)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gents always move to the location with the highest market share they know ab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606760" y="4309920"/>
                <a:ext cx="25527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sub>
                      <m:sup/>
                      <m:e>
                        <m:r>
                          <m:t xml:space="preserve">χ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lobal Information, Homogenous Age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ery agents has access to the market share of each loc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ase of pure maximizatio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lly rational ag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1city" descr=""/>
          <p:cNvPicPr/>
          <p:nvPr/>
        </p:nvPicPr>
        <p:blipFill>
          <a:blip r:embed="rId1"/>
          <a:stretch/>
        </p:blipFill>
        <p:spPr>
          <a:xfrm>
            <a:off x="838080" y="2011320"/>
            <a:ext cx="80010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ocal Information, Homogenous Age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ents have only limited, local information (I.e, “vision”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ever, the amount is homogenous across the popul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2cities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ocal Information,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eterogeneous Age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ents have only limited, local inform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agent has an individual “vision”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sion is uniformly distributed across the minimum and maximum possible val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moreCities" descr=""/>
          <p:cNvPicPr/>
          <p:nvPr/>
        </p:nvPicPr>
        <p:blipFill>
          <a:blip r:embed="rId1"/>
          <a:stretch/>
        </p:blipFill>
        <p:spPr>
          <a:xfrm>
            <a:off x="811080" y="1905120"/>
            <a:ext cx="81043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ocal and Heterogeneous Information </a:t>
            </a:r>
            <a:r>
              <a:rPr b="0" lang="en-US" sz="4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Zipf’s Law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law-kicsi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360680"/>
          </a:xfrm>
          <a:prstGeom prst="rect">
            <a:avLst/>
          </a:prstGeom>
          <a:ln w="0">
            <a:noFill/>
          </a:ln>
        </p:spPr>
      </p:pic>
      <p:pic>
        <p:nvPicPr>
          <p:cNvPr id="254" name="plaw-nagy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7724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ore precisely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Ci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l)&gt;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F(l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#of cities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l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F(l) ~ 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952880" y="3036960"/>
                <a:ext cx="312444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Locations</m:t>
                        </m:r>
                      </m:sub>
                      <m:sup/>
                      <m:e>
                        <m:r>
                          <m:t xml:space="preserve">χ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≥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432360"/>
            <a:ext cx="8163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The “Promise” of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omplex System Studie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is noth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ity-specif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the model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cale-Free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start wit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ully connected nod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dd a new nod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each time ste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probe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[m, |Nodes|]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nodes,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s to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ost connected on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scale-free" descr=""/>
          <p:cNvPicPr/>
          <p:nvPr/>
        </p:nvPicPr>
        <p:blipFill>
          <a:blip r:embed="rId1"/>
          <a:stretch/>
        </p:blipFill>
        <p:spPr>
          <a:xfrm>
            <a:off x="2270160" y="990720"/>
            <a:ext cx="46641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432360"/>
            <a:ext cx="8163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A “Probabilistic”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referential Attachment Model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“scale-free” network: power-law distributed in-degre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ed, the idea of “the-rich-get-richer” is a popular approach to generate Power Laws. (E.g., Albert-Barab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1999., Simon 1955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ever, they assume the knowledge of th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who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istribution (global informati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, it’s been proposed that “power laws” could be results of optimization proces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ever, it is usually assumed that one needs to balance two propert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554760"/>
            <a:ext cx="8163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Open Issues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The confessions of a “sinful programmer”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 far, all these findings are based o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numerical simulation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nl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alytical solution is work in progr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y help will be apprecia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BM Strengths: Case Stud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ynamical popul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terogeneous ag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mited knowledge/inform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licit representation of “interaction topology” (networks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2666880"/>
            <a:ext cx="5943600" cy="838440"/>
          </a:xfrm>
          <a:prstGeom prst="ellipse">
            <a:avLst/>
          </a:prstGeom>
          <a:noFill/>
          <a:ln w="5724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3505320"/>
            <a:ext cx="7696080" cy="838080"/>
          </a:xfrm>
          <a:prstGeom prst="ellipse">
            <a:avLst/>
          </a:prstGeom>
          <a:noFill/>
          <a:ln w="5724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191120"/>
            <a:ext cx="7924680" cy="152388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3366"/>
                </a:solidFill>
                <a:latin typeface="Verdana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laimer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Complex (Social)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gent-Based Mod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Swar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MA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ast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ase study in city form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abilistic” Scale-Free Network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Influence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screte Social Choic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roject to model residential choices in the Netherlands (with Elenna R. Dugundji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nomial logit model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ity vs. country-si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sion-making agents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…,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oice set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={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tility of choic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age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oice probability: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[i|C]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=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Verdana"/>
              </a:rPr>
              <a:t>(V</a:t>
            </a:r>
            <a:r>
              <a:rPr b="0" i="1" lang="en-US" sz="1800" spc="-1" strike="noStrike" baseline="10000">
                <a:solidFill>
                  <a:srgbClr val="000000"/>
                </a:solidFill>
                <a:latin typeface="Verdana"/>
              </a:rPr>
              <a:t>j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Verdana"/>
              </a:rPr>
              <a:t>-V</a:t>
            </a:r>
            <a:r>
              <a:rPr b="0" i="1" lang="en-US" sz="1800" spc="-1" strike="noStrike" baseline="10000">
                <a:solidFill>
                  <a:srgbClr val="000000"/>
                </a:solidFill>
                <a:latin typeface="Verdana"/>
              </a:rPr>
              <a:t>k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/(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Verdana"/>
              </a:rPr>
              <a:t>(V</a:t>
            </a:r>
            <a:r>
              <a:rPr b="0" i="1" lang="en-US" sz="1800" spc="-1" strike="noStrike" baseline="10000">
                <a:solidFill>
                  <a:srgbClr val="000000"/>
                </a:solidFill>
                <a:latin typeface="Verdana"/>
              </a:rPr>
              <a:t>j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Verdana"/>
              </a:rPr>
              <a:t>-V</a:t>
            </a:r>
            <a:r>
              <a:rPr b="0" i="1" lang="en-US" sz="1800" spc="-1" strike="noStrike" baseline="10000">
                <a:solidFill>
                  <a:srgbClr val="000000"/>
                </a:solidFill>
                <a:latin typeface="Verdana"/>
              </a:rPr>
              <a:t>k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screte Social Choices ctd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cial Influ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n field technique (global information) [Aoki 1995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V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jn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-V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kn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f(x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=#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- #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networks (local information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V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jn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-V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kn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f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loc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loc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=#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loc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- #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loc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teraction topology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s a parame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screte Social Choices ctd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ologies studied so fa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d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ős-Rényi networ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Wat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Strogatz networ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network has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mall-world proper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then the system behaves as in the case of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lobal inform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ws,%20w=0" descr=""/>
          <p:cNvPicPr/>
          <p:nvPr/>
        </p:nvPicPr>
        <p:blipFill>
          <a:blip r:embed="rId1"/>
          <a:stretch/>
        </p:blipFill>
        <p:spPr>
          <a:xfrm>
            <a:off x="838080" y="1844640"/>
            <a:ext cx="8153640" cy="4632480"/>
          </a:xfrm>
          <a:prstGeom prst="rect">
            <a:avLst/>
          </a:prstGeom>
          <a:ln w="0">
            <a:noFill/>
          </a:ln>
        </p:spPr>
      </p:pic>
      <p:pic>
        <p:nvPicPr>
          <p:cNvPr id="277" name="ws,%20w=030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815364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432360"/>
            <a:ext cx="8163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Future Work on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Discrete Social Choice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rther network topolog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nomial cho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irical ground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dogenous network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BM Strengths: Case Stud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ynamical popul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terogeneous ag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mited knowledge/inform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licit representation of “interaction topology” (networks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2666880"/>
            <a:ext cx="5943600" cy="838440"/>
          </a:xfrm>
          <a:prstGeom prst="ellipse">
            <a:avLst/>
          </a:prstGeom>
          <a:noFill/>
          <a:ln w="5724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3505320"/>
            <a:ext cx="7696080" cy="838080"/>
          </a:xfrm>
          <a:prstGeom prst="ellipse">
            <a:avLst/>
          </a:prstGeom>
          <a:noFill/>
          <a:ln w="5724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191120"/>
            <a:ext cx="7924680" cy="152388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urther Interes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ftware Tools for ABM model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braries and “design patterns” for RePast and other platfor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 for writing “topology-independent” mode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unified” formalism for AB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ict and concise “calculus”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ead of program co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ic code-gener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stainable” network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ersonal Background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uter Science and Applied Mathematic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aborating with Social Scientis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tical Sc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ilosoph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h-dependenc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complex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yst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mplex (Social) 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2600" y="2323800"/>
            <a:ext cx="811044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gh number o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Complex] ent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acting in a non-trivial wa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6005520" y="2443320"/>
            <a:ext cx="2909880" cy="833400"/>
          </a:xfrm>
          <a:prstGeom prst="borderCallout2">
            <a:avLst>
              <a:gd name="adj1" fmla="val 18750"/>
              <a:gd name="adj2" fmla="val -8333"/>
              <a:gd name="adj3" fmla="val 13712"/>
              <a:gd name="adj4" fmla="val -2620"/>
              <a:gd name="adj5" fmla="val 58287"/>
              <a:gd name="adj6" fmla="val -126842"/>
            </a:avLst>
          </a:prstGeom>
          <a:solidFill>
            <a:srgbClr val="dddddd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dynamically cha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05520" y="3505320"/>
            <a:ext cx="2909880" cy="833400"/>
          </a:xfrm>
          <a:prstGeom prst="borderCallout2">
            <a:avLst>
              <a:gd name="adj1" fmla="val 18750"/>
              <a:gd name="adj2" fmla="val -8333"/>
              <a:gd name="adj3" fmla="val 13712"/>
              <a:gd name="adj4" fmla="val -2620"/>
              <a:gd name="adj5" fmla="val 56569"/>
              <a:gd name="adj6" fmla="val -84125"/>
            </a:avLst>
          </a:prstGeom>
          <a:solidFill>
            <a:srgbClr val="dddddd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heteroge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gent-Based Model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putational appro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f. numerical simulations &amp; approxim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tom-up” approach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the point of view of the compon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engths in handling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ynamic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opul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terogeneou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g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knowledge/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icit representa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action topolog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e.g., network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3352680" y="380880"/>
            <a:ext cx="5791320" cy="2133720"/>
          </a:xfrm>
          <a:prstGeom prst="cloudCallout">
            <a:avLst>
              <a:gd name="adj1" fmla="val -65050"/>
              <a:gd name="adj2" fmla="val 3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A rapid prototyping tool for thought experi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BM Softwar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70000"/>
              </a:lnSpc>
              <a:spcBef>
                <a:spcPts val="17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war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swarm.org/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70000"/>
              </a:lnSpc>
              <a:spcBef>
                <a:spcPts val="15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ML (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maml.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7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ca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7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Pas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repast.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sourceforge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.net/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 Pattern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ology Independ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7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NetLogo, AgentShee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380880"/>
            <a:ext cx="5791320" cy="1295640"/>
          </a:xfrm>
          <a:prstGeom prst="cloudCallout">
            <a:avLst>
              <a:gd name="adj1" fmla="val -65050"/>
              <a:gd name="adj2" fmla="val 329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Not</a:t>
            </a:r>
            <a:r>
              <a:rPr b="0" i="1" lang="en-US" sz="2400" spc="-1" strike="noStrike">
                <a:solidFill>
                  <a:srgbClr val="9a0000"/>
                </a:solidFill>
                <a:latin typeface="Verdana"/>
              </a:rPr>
              <a:t> AI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-type agen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BM Strengths: Case Stud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ynamical popul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terogeneous ag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mited knowledge/inform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licit representation of “interaction topology” (networks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2666880"/>
            <a:ext cx="5943600" cy="838440"/>
          </a:xfrm>
          <a:prstGeom prst="ellipse">
            <a:avLst/>
          </a:prstGeom>
          <a:noFill/>
          <a:ln w="5724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3505320"/>
            <a:ext cx="7696080" cy="838080"/>
          </a:xfrm>
          <a:prstGeom prst="ellipse">
            <a:avLst/>
          </a:prstGeom>
          <a:noFill/>
          <a:ln w="5724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ity Form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ities came to exis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Explanations. Among other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ographical Moti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zzle (“Zipf’s Law”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ze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largest city) ~ 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lf-Organizing Citi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inimalist model after Paul Krugman (with Yuri Mansury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ms in a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bstract spa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1D toru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and negativ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conomies of agglomer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Here we will ignore negative effects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unded rational agents: firms selec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best place they know abou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move the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3-06-20T08:57:33Z</dcterms:modified>
  <cp:revision>23</cp:revision>
  <dc:subject/>
  <dc:title>PowerPoint Presentation</dc:title>
</cp:coreProperties>
</file>